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81F-B81C-4D60-B76D-97BA52B1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96D-6CD2-400C-9BF2-C45B3FC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2EF-9BC3-4352-BF81-4F4D59A4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5F2-04D4-4AE3-8EE9-096DCCC0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16F-21D3-4DB7-A4B7-76F0B2E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F88-582C-43C2-A15E-3FEEA86F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BBA-3750-4A02-B72B-B2A46F54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82B-79D9-419B-BE38-C7F6FEE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5DA-DF69-4EB4-9CFE-A8CEF232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74B-AE98-474A-BC30-FF80BE65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B21-473C-45BF-97A6-CCFC96A3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083-A2C2-4BD1-AADD-04CC4E2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6ADB-F1C1-46A9-A963-9AD516D6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f/Cotton_gin_harper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llio Post Test Ma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6400800"/>
            <a:ext cx="528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age:http://commons.wikimedia.org/wiki/File:Cotton_gin_harp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04920"/>
            <a:ext cx="6705360" cy="509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208764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oughout the early to mid-1800’s, the Lowell factory system primarily employ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895480"/>
            <a:ext cx="51051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ried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208764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as a major effect of the introduction of the cotton gi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937260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ine in the southern slav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cline in the size of southern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cotto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e in the import of manufactured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2743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23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the Cotton Mill change people’s lives in the United States? </a:t>
            </a:r>
            <a:br>
              <a:rPr sz="3200"/>
            </a:br>
            <a:br>
              <a:rPr sz="1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heck all of the ways the Cotton Mill changed people’s liv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3440" y="3336840"/>
            <a:ext cx="93726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more jobs in factories for young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more jobs in factories for sla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greater demands on southern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155600"/>
                <a:tab algn="l" pos="1320840"/>
                <a:tab algn="l" pos="1486080"/>
                <a:tab algn="l" pos="1650960"/>
                <a:tab algn="l" pos="1816200"/>
                <a:tab algn="l" pos="1981080"/>
                <a:tab algn="l" pos="2146320"/>
                <a:tab algn="l" pos="2311560"/>
                <a:tab algn="l" pos="2476440"/>
                <a:tab algn="l" pos="2641680"/>
                <a:tab algn="l" pos="2806560"/>
                <a:tab algn="l" pos="2971800"/>
                <a:tab algn="l" pos="3137040"/>
                <a:tab algn="l" pos="3301920"/>
                <a:tab algn="l" pos="3467160"/>
                <a:tab algn="l" pos="3632040"/>
                <a:tab algn="l" pos="3797280"/>
                <a:tab algn="l" pos="3962520"/>
                <a:tab algn="l" pos="4127400"/>
                <a:tab algn="l" pos="4292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ed in a decline in mill job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2:10:14Z</dcterms:created>
  <dc:creator>Magner</dc:creator>
  <dc:description/>
  <dc:language>en-US</dc:language>
  <cp:lastModifiedBy>Magner</cp:lastModifiedBy>
  <dcterms:modified xsi:type="dcterms:W3CDTF">2009-08-30T22:06:40Z</dcterms:modified>
  <cp:revision>6</cp:revision>
  <dc:subject/>
  <dc:title>Slide 1</dc:title>
</cp:coreProperties>
</file>